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A5E-EDFC-4538-83B2-F543C8E7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19A-A1DE-4C7D-BA7E-13D37632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BE0-BD33-42FF-A252-FA60389D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47D-534A-4473-A65F-A0783DC5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25AB-96D3-4441-BE1A-AC6250A6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EA59-B5C2-4DD0-B602-7F21FCDA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13B0-E3D0-4E17-989F-CA09BDD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114E-C926-4B02-B60D-139F3630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D050-4D61-41B3-81EC-7D08716A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3584-2A92-43B5-9B41-A42F6A57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DABB-8132-4044-8629-94D9913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456-9973-4D20-BFB0-1FDC6010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B053-10CC-4DAB-9CBE-0ED1C823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AE5F-4755-4DBD-BA0D-D1E37B3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C1DA-E8F7-4EF4-9B85-673204E3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B19E-4F58-4B94-869B-0A7017D8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393-DCD6-4224-ADF0-E8155395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91B-6532-403C-B473-2966A3F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AE7-7350-4E85-914A-8873119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059-3A2F-4FF5-8D1A-516D9F10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1DD-F2ED-48C6-B315-97AE8BC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B69-49D3-4C7B-A6B4-F5F5C02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48C-E2B7-4BB1-9574-A65AEFC3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E80-8C8C-45C2-90B9-C792913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2C7C-9149-4D6B-9946-7EFD77071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FB89-9A70-4D04-837B-2B5D538ECD5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The Road to the Constitution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Articles of Confeder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720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state of the “union” under the Articles of Confeder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xtremely weak national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conomic chaos and depress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troubles with the young nation became very apparent after Shay’s Rebell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meeting was called for the purpose of revising the Articles. However, this quickly changed to establishing a new plan for the United States govern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Articles of Confeder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first national government was created by the Second Continental Congress in 1777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ew national government was outlined in a document called the Articles of Confede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y 1781, all of the states had ratified the Articles of Confederation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 confederation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confederation is a group of individual state governments that band together for a common purpo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vernmental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national government consisted of a unicameral (one-house) legislature.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is legislature was called the Confederation Congres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re were no executive or judicial branche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ach state had one vot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Nine votes were needed to pass a law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mending the Articles required a unanimous vote of all the stat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islative P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Under the Articles of Confederation, the Confederation Congress had the power to: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529920" indent="-529920">
              <a:spcBef>
                <a:spcPts val="10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eclare Wa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529920" indent="-529920">
              <a:spcBef>
                <a:spcPts val="10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evelop Foreign Polic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529920" indent="-529920">
              <a:spcBef>
                <a:spcPts val="10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oin Mone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529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islative Power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un the Post Offic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5. Borrow Mone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6. Appoint Officers to the Army and Nav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*All powers not specifically given to the Congress belonged to the stat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eaknesses of the Articles of Confeder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gress could not tax the states; The Congress could ask the states for money but could not compel them to p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gress could not regulate interstate or foreign trad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gress could declare war but had no authority to raise troop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14440" y="0"/>
            <a:ext cx="80960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4:37:47Z</dcterms:created>
  <dc:creator>Owner</dc:creator>
  <dc:description/>
  <dc:language>en-US</dc:language>
  <cp:lastModifiedBy>SysAdmin</cp:lastModifiedBy>
  <dcterms:modified xsi:type="dcterms:W3CDTF">2011-09-07T12:06:45Z</dcterms:modified>
  <cp:revision>41</cp:revision>
  <dc:subject/>
  <dc:title>The Road to the Constitution</dc:title>
</cp:coreProperties>
</file>